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5B1-F8CC-4FC7-85BF-5211E9CE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DE3-24F6-4A19-8883-C45E9E3D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C12-D2C9-45FA-9C65-3E3D4ED8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620-97D2-412B-9AC0-C630D6EE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7E648-99D2-4E97-ABBD-ACFD5D1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D3415-D9CE-4861-B6AD-215CB1D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4C495-3671-4623-A69D-F35629B5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0D2BB-99DD-4C23-BAEF-991C3BFA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A120A-F78A-4E11-9997-C4AA6BF0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2666-935D-41EA-895E-611153BA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A956B-85FB-4164-B308-B603289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ADA-9459-4C35-86E1-0F4FCE3D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14B6A-DC79-492A-8785-0E4495C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1539D-5025-4EA7-9848-97436AE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FE145-9294-4815-B21D-673B868F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7CD18-B6CA-449A-9806-9D33A368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86848-D371-4785-B203-77CFFCBC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DE96-C484-4A49-B81E-94FE6312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5083-7B7E-4138-9483-E56EA6B3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9104-F313-4377-BADE-4A45886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79D1-515A-48D0-94D0-0982D2D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0BFC-3511-4B10-AA9E-16349B97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BFE-23E2-4094-BEA7-D41C7D16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3F49-2B76-4E69-BA78-D22F38D9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3E3E-F28C-43AB-9F6B-10EF537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C23F-7907-434C-A393-6D96F1C3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04BE-F402-4D43-A9D8-F672986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A6FB-1854-4E7C-B0E0-2124729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0F49-2001-4C82-B682-3DB9932D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0769-AC18-49A1-8A18-BBACFF8E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8E639-0EB3-422D-9B98-352DB880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01837-D989-4926-9F7E-E41A84AE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B892C-F4CC-41A3-B57D-1E158A5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9BD-770B-4712-8DCE-6C5DAF3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60E04-6A84-4D6B-8D48-93CC316B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0394A-39B1-4DD1-B2C9-A5929534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4002B-0514-41C3-B3EE-B18D91F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F952E-8DF1-4C4E-B8D8-075F7EEB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F0EA8-5790-4332-83E3-2D23F25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58F59-5AC3-4B4F-9899-8568EDFE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106C8-3CC4-49E1-A0E3-9AF97A3F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83A14-2911-4FF5-8666-36E5DC73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70A75-E276-4B04-AFDE-CB3FC92E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C6F93-1B85-4A52-BBE7-F1B429D1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324-7E1D-46CB-B052-407B321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34C9A-34FB-4DB7-B109-4F024828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6AA80-1D72-4CAA-8CA2-F241C7B7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36960-6ACB-4C7A-B36C-AC099DB6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A337A-7EEA-4814-B461-264D7AA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387C0-96E0-4C0E-AFB2-8D1A74CC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34EAD-8424-43BE-8005-6CA40CD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3105F-8BA3-4A3D-ADD9-E5283D5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3AD9E-7FC8-4352-9CC7-F9DCF1B2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E430B-FAC0-4B7D-AE51-522523A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7603B-1A85-4C81-80AF-8D9CA56F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5BC-A8BD-479B-B727-2790724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8DE52-1199-4B5E-A5FF-8E1928BD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8414D-C0CD-4959-84F1-C1088333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477E07-A0DC-4B9A-A180-4579263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86696-8727-45F6-970F-600B54D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B4E97-7ABA-4B5B-B08F-97999153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E8DE5-2F99-422F-A79D-C7D6EB7E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2DC10-D2B0-42D7-814A-39C377AA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96BAA-7ED6-48C5-9579-10F6C53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C2842-F461-46DF-9776-65C75E8F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A39A9-B57D-4CCD-A890-A26D84D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9E2-50DB-4D29-B6B0-9997245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9C7C2-561B-42FC-8D01-F594837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37078-EE48-4A55-9D30-28EF9630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E4BBE-C72C-40EA-924F-AC650DAB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BC0-CA69-4F8F-8C9A-3C9C5ED9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BAD-B1AD-4F53-962C-D46EAC6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438-6910-4D78-9BF3-D2AEF72AE0A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BF8A-9A7F-47D1-BBC9-30CAF60533C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C94-1C66-485A-81F6-C845EF5A64E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194D-9E5A-406E-875D-11C9C0464FC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46E-FF2D-45A9-942B-E94E14EAD3C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1047-0B80-4DD8-8947-BA6167D591D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3160" y="43578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Выполнил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Курдюкова Окса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Группа Ф-504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84120" y="706320"/>
            <a:ext cx="836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456840"/>
            <a:ext cx="4757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eb160"/>
                </a:solidFill>
                <a:latin typeface="Constantia"/>
              </a:rPr>
              <a:t>Принципиальная черта православного символизма — его каноничность, которая предохраняет церковное искусство от перерождения в произвольное символотворчество каждого отдельного художника, что означало бы разрушение двуединства, распад иконичности, разрыв между Первообразом и образом. Вместе с тем, принципиальная черта православной каноничности — ее символичность, стремление избежать всякого натурализма, предотвратить попытки смешения образа и Первообраза. Канон поэтому есть не столько эстетическая категория, сколько мировоззренческа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643800" y="5214960"/>
            <a:ext cx="19843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Киево-Печерская икона Божьей Матери с предстоящими прп. Антонием и Феодосием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5286240" y="142920"/>
            <a:ext cx="3643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2"/>
          <a:stretch/>
        </p:blipFill>
        <p:spPr>
          <a:xfrm>
            <a:off x="476280" y="706320"/>
            <a:ext cx="84121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6840" y="456840"/>
            <a:ext cx="56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onstantia"/>
              </a:rPr>
              <a:t>Русская церковная архитектура начинается вместе с утверждением в России христианства (988). Приняв от греков веру, священнослужителей и все нужное для богослужения, мы одновременно позаимствовали от них и форму храмов. Наши предки приняли крещение в тот век, когда в Греции господствовал византийский стиль; поэтому наши древние храмы построены в этом стиле. Эти храмы были построены в главнейших русских городах: в Киеве, Новгороде, Пскове, Владимире и в Москв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428560" cy="5143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071760" y="5428800"/>
            <a:ext cx="241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843 года назад (1165) построен Храм Покрова на Нерли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2"/>
          <a:stretch/>
        </p:blipFill>
        <p:spPr>
          <a:xfrm>
            <a:off x="420840" y="493560"/>
            <a:ext cx="83152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6840" y="4568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b160"/>
                </a:solidFill>
                <a:latin typeface="Constantia"/>
              </a:rPr>
              <a:t>Часто на храме строят не одну, а несколько глав, тогда две главы означают два естества (Божеское и человеческое) в Иисусе Христе; три главы — три Лица Св. Троицы; пять глав — Иисуса Христа и четырех евангелистов, семь глав — семь Таинств и семь Вселенских Соборов, девять глав — девять чинов ангельских, тринадцать глав — Иисуса Христа и двенадцать апостол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428880" y="5500440"/>
            <a:ext cx="1984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Храм Иоанна Предтечи в Толчкове в Ярославле. 1671-1687 гг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5715000" y="500040"/>
            <a:ext cx="30862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456840"/>
            <a:ext cx="46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onstantia"/>
              </a:rPr>
              <a:t>Понятие «канон» относительно храмовой архитектуры часто употребляется архитекторами неверно, они расширяют или сужают границы этого понятия. В настоящее время в прессе, общественных обсуждениях объектов храмового зодчества зачастую происходит подмена понятий канон и традиция. Порой именно историческая традиция называется каноном. Сегодня трактовка канона архитекторами и богословами бывает совсем различной. Каждый объясняет это по-своем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428880" y="5500800"/>
            <a:ext cx="198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3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Церковь деревянная, согласно всем канонам русского зодчества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5072040" y="500040"/>
            <a:ext cx="3714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4568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eb160"/>
                </a:solidFill>
                <a:latin typeface="Constantia"/>
              </a:rPr>
              <a:t>Канон в архитектуре храма носит достаточно абстрактный характер, нежели, например, в иконографии. Существование иконографического канона служит основанием для гипотезы о наличии «архитектурного канона». Иконописный канон существует на уровне конкретного графического воплощения. Наверное, суть канона в архитектуре храма заключается в большей степени в идейном содержании, чем практической реализации конкретных форм, линий, цветового решения и т.д. И возможно, понятие канон, как свод норм и правил обязательных и неукоснительных для исполнения в проектировании и строительстве православного храма, несостоятельно для употребления в отношении архитектуры храма. Канон является необходимым, но недостаточным для полноценного формообразования и возникновения нового в архитектуре храма. В настоящее время ложно и расширительно понимаемый канон часто является субъективно навязываемой традицией и подчас тормозом в развитии архитектуры православных храмов. Поэтому в настоящее время необходима четкая система, строгая многоуровневая иерархия знаний об этом вопрос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429240" y="5500800"/>
            <a:ext cx="2270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5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ac9"/>
                </a:solidFill>
                <a:latin typeface="Constantia"/>
              </a:rPr>
              <a:t>Храмы, подобные Софийскому, очень характерны для русского зодчества XVI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5715000" y="571680"/>
            <a:ext cx="32097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3" descr=""/>
          <p:cNvPicPr/>
          <p:nvPr/>
        </p:nvPicPr>
        <p:blipFill>
          <a:blip r:embed="rId3"/>
          <a:stretch/>
        </p:blipFill>
        <p:spPr>
          <a:xfrm>
            <a:off x="5286240" y="1357200"/>
            <a:ext cx="3357720" cy="3643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4"/>
          <p:cNvSpPr/>
          <p:nvPr/>
        </p:nvSpPr>
        <p:spPr>
          <a:xfrm>
            <a:off x="5572080" y="50720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бор Рождества Пресвятой Богородицы в Антониевом монастыре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4"/>
          <a:stretch/>
        </p:blipFill>
        <p:spPr>
          <a:xfrm>
            <a:off x="428760" y="1357200"/>
            <a:ext cx="3528720" cy="380520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6"/>
          <p:cNvSpPr/>
          <p:nvPr/>
        </p:nvSpPr>
        <p:spPr>
          <a:xfrm>
            <a:off x="419040" y="5572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Иконопись в Древней Рус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4311720" y="428760"/>
            <a:ext cx="4618080" cy="5819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29289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2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Икона - это живописное, реже рельефное изображение Иисуса Христа, Богоматери, ангелов и святых. Ее нельзя считать картиной, в ней воспроизводится не то, что художник имеет перед глазами, а некий прототип, которому он должен следова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401760" y="146160"/>
            <a:ext cx="4365360" cy="635796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3" descr=""/>
          <p:cNvPicPr/>
          <p:nvPr/>
        </p:nvPicPr>
        <p:blipFill>
          <a:blip r:embed="rId3"/>
          <a:stretch/>
        </p:blipFill>
        <p:spPr>
          <a:xfrm>
            <a:off x="5500800" y="1214280"/>
            <a:ext cx="3000240" cy="39052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5000760" y="5214960"/>
            <a:ext cx="3643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a1d"/>
                </a:solidFill>
                <a:latin typeface="Constantia"/>
              </a:rPr>
              <a:t>«Чудо от иконы “Знамение”» («Битва новгородцев с суздальцами»). 15 в. Историко-архитектурный музей-заповедник. Новгород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262080" y="420840"/>
            <a:ext cx="8596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456840"/>
            <a:ext cx="532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b160"/>
                </a:solidFill>
                <a:latin typeface="Constantia"/>
              </a:rPr>
              <a:t>Вокруг головы Спасителя, Божией Матери и святых угодников Божиих на иконах изображают сияние в форме круга, которое называется нимб. Нимб – это изображение сияния света и Божественной славы, которая преображает и человека, соединившегося с Богом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b160"/>
                </a:solidFill>
                <a:latin typeface="Constantia"/>
              </a:rPr>
              <a:t>На иконах отсутствуют тени. Это тоже обусловлено особенностями миропонимания и задачами, которые стояли перед иконописцем. Мир горний – это царство духа, света, оно бесплотно, там нет теней. Икона являет вещи, творимые и производимые Светом, а не освещенные свето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500880" y="5357880"/>
            <a:ext cx="198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d3be"/>
                </a:solidFill>
                <a:latin typeface="Constantia"/>
              </a:rPr>
              <a:t>Икона Божией Матери "Неупиваемая Чаша"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5643720" y="642960"/>
            <a:ext cx="32623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4568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Символика жест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а, прижатая к груди – сердечное сопережив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а, поднятая вверх – призыв к покаяни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а, протянутая вперед с раскрытой ладонью – знак повиновения и покор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Две руки, поднятые вверх – моление о мир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и, поднятые вперед – моление о помощи, жест просьб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и, прижаты к щекам – знак печали, скорб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214680" y="5572080"/>
            <a:ext cx="248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efac9"/>
                </a:solidFill>
                <a:latin typeface="Constantia"/>
              </a:rPr>
              <a:t>Нерушимая Стена" икона Божией Матер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5786280" y="285840"/>
            <a:ext cx="2986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456840"/>
            <a:ext cx="46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Символика веще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уб – древо жизни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ом – символ домостроения, созида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Гора – символ возвышенного, знак духовно-нравственного восхожде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Красный крест – символ мученичества (и Возрождения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Цветок анемона – знак скорби Марии, матери Христа (обычно на иконах «Распятие» и «Снятие с Креста»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осох у ангела – символ небесного вестничества, посланничеств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Юноша с трубой – ветер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еликан – символ чадолюб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Золотой венец – символ духовной побед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равая и левая сторона на иконе или фреске – тоже зачастую символичны. Средневековый зритель знал, что слева от Христа – девы неразумные, справа – разумны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ва-три дерева символизируют лес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Луч с небесных сфер – символ Святого духа, Божественной энергии, которая совершает чудо воплощения Божества в человеке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ействие перед храмом или зданием, где снята передняя стена, означает, что оно происходит внутри храма или зда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572080" y="5500440"/>
            <a:ext cx="2841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82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Икона. Праздничный ч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5072040" y="357120"/>
            <a:ext cx="3681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456840"/>
            <a:ext cx="4829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рошлое и будущее и икон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Часто икона показывает события нескольких дне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Икона «Кирик и Улита»(XVII в., Ярославский музей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или даже целой жизни святого. Во время молитвы люди успевали подумать над ними, пережить их в своем сердце. Так,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например, икона «Кирик и Улита» подробно и постепенно рассказывает историю христианских мучеников, матери и сына. В 305 г. по приказу римского правителя города Тарса их пытали, а потом казнили. Сложив руки в молитве, мученики кротко обращаются к небу, где на золотом троне среди облаков восседает Христос. Слева, среди арок и колонн (а значит, внутри зданий), представляют сцены их подвигов и чудес. Вот Кирика и Улиту приводят на суд, потом бьют плетьми, бросают в котел с кипящей смолой, а они остаются невредимыми. После этого они даже исцеляют руку жестокого правителя, которая попала в котел. Один из злодеев пинает Кирика ногой и тут же падает замертво. В центре иконы палач отрубает окруженную нимбом голову Улиты. Так икона показывала прошлое и будущее, при этом даже самые простые люди понимали, что чудесные события происходят в другом, неземном времени и пространств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571720" y="5786280"/>
            <a:ext cx="27702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Икона "Кирик и Улита"(XVII в., Ярославский музей)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5286240" y="785880"/>
            <a:ext cx="3490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4568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Иконописный канон – совокупность правил и норм, регламентирующих написание икон, в своей основе содержит концепцию образа и символа. Церковный иконописный канон фиксировал и закреплял те особенности иконографических изображений, которые отделяли божественный, горний мир от мира земного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Иконописный канон реализовался на Руси в так называемых подлинниках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• </a:t>
            </a: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Лицевые подлинники – представляли собой схемы – рисунки (прориси), в которых фиксировалась основная композиция иконы, использовавшиеся при этом цветовые характеристи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• </a:t>
            </a: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Толковые подлинники – давали словесное описание основных иконографических тип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715080" y="5143320"/>
            <a:ext cx="19843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ac9"/>
                </a:solidFill>
                <a:latin typeface="Constantia"/>
              </a:rPr>
              <a:t>Икона Вознесение Господне, иконописец Юрий Кузнецов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6572160" y="500040"/>
            <a:ext cx="2214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ovaEA</cp:lastModifiedBy>
  <dcterms:modified xsi:type="dcterms:W3CDTF">2014-09-29T08:07:03Z</dcterms:modified>
  <cp:revision>20</cp:revision>
  <dc:subject/>
  <dc:title>Слайд 1</dc:title>
</cp:coreProperties>
</file>