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8E65-D008-4F0C-8629-6C7E3B36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79D7-FA45-4B36-B6DC-923E00B4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133-E8FD-4FB3-B032-08D4EF2D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682C-1098-405F-B1ED-757F9A6E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C5F6-66A2-442D-8D51-2FC43B1C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50C0-77D6-4854-A0AC-79F54BFE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C671-1E72-4A15-81CC-F9E7BA6B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104C-7FEF-43C6-AA1D-08B826E0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A485-F1DB-47EB-9795-6E142557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683F-8551-4241-9F5C-65F27438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9384-A5AE-4F65-B643-FE190135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517-2644-44D3-9089-9868BCF5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0A7F-6316-4E2E-B10A-0F8AFC7A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6153-3C80-4695-8CCE-A5334C4B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652A-7A70-433C-963D-6D80FC14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E810-F2A8-479F-8BCF-FC71F46B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8E92-BD0D-4B1B-93F8-672BA7F2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D7C-DBF0-464D-80E5-87073F2F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A841-5902-4351-AEBF-81212EF5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D5EB-4E6A-41E4-A785-D9E8A4AD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B977-698D-45D0-AA00-2173CD5D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E15-639E-43BF-B1B4-9452D962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42B4-6553-4CE9-95A9-06960FFF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F13C-8902-4B62-82A8-697BA2BB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EE96-7B3E-4A26-AC40-AA7D59E12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6A2A-E827-4521-BE21-0003DA4445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Художественная культура России после октябрьской революции 1917 года</a:t>
            </a:r>
            <a:br>
              <a:rPr sz="4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ериод культурной революции</a:t>
            </a:r>
            <a:br>
              <a:rPr sz="48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240" y="4436640"/>
            <a:ext cx="75214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полни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саак Израилевич Бродск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ссийский и советский живописе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ртр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еренског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17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image002"/>
          <p:cNvPicPr/>
          <p:nvPr/>
        </p:nvPicPr>
        <p:blipFill>
          <a:blip r:embed="rId1"/>
          <a:stretch/>
        </p:blipFill>
        <p:spPr>
          <a:xfrm>
            <a:off x="5091120" y="1819440"/>
            <a:ext cx="315288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учкин Петр Дмитриевич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сский советский художник,живописец, график, иллюстратор книги, педагог, заслуженный деятель искусств РСФСР(1956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трет художника П.Василье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Дейнека Александр Александрович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ерой Социалистического Труда. Действительный член Академии Художеств СССР. Народный художник ССС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5508720" y="1341360"/>
            <a:ext cx="2303280" cy="2089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6"/>
          <p:cNvSpPr/>
          <p:nvPr/>
        </p:nvSpPr>
        <p:spPr>
          <a:xfrm>
            <a:off x="5650560" y="357336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удущие летч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4357800" y="623736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лхозница на велосипеде. 193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евастьянов Витал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лодые художники видели свой эстетический идеал в новейших течениях и отражали в живописи занятие спортом, развитие промышлен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tretch/>
        </p:blipFill>
        <p:spPr>
          <a:xfrm>
            <a:off x="4648320" y="1484280"/>
            <a:ext cx="3668760" cy="4969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8"/>
          <p:cNvSpPr/>
          <p:nvPr/>
        </p:nvSpPr>
        <p:spPr>
          <a:xfrm>
            <a:off x="2160720" y="5876280"/>
            <a:ext cx="24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звание: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ысот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9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67280" cy="50403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579840" y="115920"/>
            <a:ext cx="5564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Юрий Пименов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5724360" y="4515840"/>
            <a:ext cx="34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ешь тяжелую индустрию!" 192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ера Игнатьевна Мух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сский скульптор, народный худож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Рабочий и колхозниц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7" descr="2ca76e356f7a"/>
          <p:cNvPicPr/>
          <p:nvPr/>
        </p:nvPicPr>
        <p:blipFill>
          <a:blip r:embed="rId1"/>
          <a:stretch/>
        </p:blipFill>
        <p:spPr>
          <a:xfrm>
            <a:off x="5164200" y="1600200"/>
            <a:ext cx="300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Томский Николай Васильевич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етский скульптор-монументалист, автор многих известных парадных памятников советской эпохи, действительный член Академии художеств ССС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9" descr="200px-Stalin-grave"/>
          <p:cNvPicPr/>
          <p:nvPr/>
        </p:nvPicPr>
        <p:blipFill>
          <a:blip r:embed="rId1"/>
          <a:stretch/>
        </p:blipFill>
        <p:spPr>
          <a:xfrm>
            <a:off x="5397480" y="2033640"/>
            <a:ext cx="2540160" cy="3657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0"/>
          <p:cNvSpPr/>
          <p:nvPr/>
        </p:nvSpPr>
        <p:spPr>
          <a:xfrm>
            <a:off x="3137760" y="6021000"/>
            <a:ext cx="58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юст Сталина в Некрополе у Кремлёвской ст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Архитектор К.Т.Топуридз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970440" cy="45259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нтан «Дружба»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55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2447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ксим Горь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Пешков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усский писатель, прозаик, драматур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лавной задачей социалистического реализма является воспитание социалистического, революционного взгляда на мир, соответствующего ощущения мир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дин из основателей соцреализма в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5219640" y="1341360"/>
            <a:ext cx="3237120" cy="45259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5"/>
          <p:cNvSpPr/>
          <p:nvPr/>
        </p:nvSpPr>
        <p:spPr>
          <a:xfrm>
            <a:off x="5006160" y="602064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мятник в Санкт-Петербург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Федин Константин Александрович</a:t>
            </a:r>
            <a:br>
              <a:rPr sz="40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сский советский писатель, общественный деятел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ерой социалистического тру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5076720" y="1052640"/>
            <a:ext cx="3610080" cy="47415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6"/>
          <p:cNvSpPr/>
          <p:nvPr/>
        </p:nvSpPr>
        <p:spPr>
          <a:xfrm>
            <a:off x="5078160" y="6020640"/>
            <a:ext cx="34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мятник Федину в Саратов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544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П. Оссовский. 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Москва. Красная площадь. Мавзолей В.И.Ленина.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4278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755640" y="1341000"/>
            <a:ext cx="7920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этот период Россия обладала богатейшим культурным наслед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ее культурно исторический процесс характеризовался исканиями и борьбой в различных сферах культур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ьше всего соцреализм сохранился в искусстве плак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онец 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. И. Овчинников, «Рыбаки Каспия» 1958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10" descr="234px-Ovchinnikov-Vladimir-Ivanovich-Caspian-Fisherman-ovc14bw"/>
          <p:cNvPicPr/>
          <p:nvPr/>
        </p:nvPicPr>
        <p:blipFill>
          <a:blip r:embed="rId1"/>
          <a:stretch/>
        </p:blipFill>
        <p:spPr>
          <a:xfrm>
            <a:off x="3649680" y="1960560"/>
            <a:ext cx="21398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осле революций 1917 года Россия переходит к социалистическому реализм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403848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ая тема – прославление труда человека, его подвиг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Й. Коллар Ярмарка в Банско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7" descr="Социалистический реализм"/>
          <p:cNvPicPr/>
          <p:nvPr/>
        </p:nvPicPr>
        <p:blipFill>
          <a:blip r:embed="rId1"/>
          <a:stretch/>
        </p:blipFill>
        <p:spPr>
          <a:xfrm>
            <a:off x="4716360" y="3068640"/>
            <a:ext cx="403884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оциалистический реализм-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дставляет собой выражение концепции мира и человека, обусловленный эпохой борьбы. Его возникновение и развитие связаны с распространением социалистических идей, с развитием революционного рабочего дви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530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Фото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Борис Игнатович.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Москва 1939 год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2987640" y="260280"/>
            <a:ext cx="309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инципы соцреализ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арод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ерои – рабочие и крестья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527640" cy="452592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5"/>
          <p:cNvSpPr/>
          <p:nvPr/>
        </p:nvSpPr>
        <p:spPr>
          <a:xfrm>
            <a:off x="1130400" y="5077800"/>
            <a:ext cx="34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Жабинский Л. «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лхозницы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инципы соцреализ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85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дей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иск путей достижения всеобщей рад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ветски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художни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Самохвало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3635280" y="1600200"/>
            <a:ext cx="5051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инципы соцреализ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онкрет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терия первична, сознание вторич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.М.Семёнов, «Ленинград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3498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зобразительное искусст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удожники в своих работах изображали быт  народа, рабочих, арм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1"/>
          <a:stretch/>
        </p:blipFill>
        <p:spPr>
          <a:xfrm>
            <a:off x="4643280" y="1197000"/>
            <a:ext cx="4038840" cy="52563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0"/>
          <p:cNvSpPr/>
          <p:nvPr/>
        </p:nvSpPr>
        <p:spPr>
          <a:xfrm>
            <a:off x="901800" y="594936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. Попова. «Хороший улов.»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0:29:39Z</dcterms:created>
  <dc:creator>Customer</dc:creator>
  <dc:description/>
  <dc:language>en-US</dc:language>
  <cp:lastModifiedBy>BorisovaEA</cp:lastModifiedBy>
  <dcterms:modified xsi:type="dcterms:W3CDTF">2014-09-29T08:09:09Z</dcterms:modified>
  <cp:revision>9</cp:revision>
  <dc:subject/>
  <dc:title>Художественная культура России после октябрьской революции 1917 года</dc:title>
</cp:coreProperties>
</file>