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12C-4D4B-403E-9E78-CBE2852C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EDF-6AF6-425B-BD06-E2C6DD11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300-A6B7-4145-B438-F16EF1D0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1ECD-C77B-401F-B06C-5F5660CF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10939-B42D-4E74-82AA-F23CAD25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1F3C7-B206-4A34-A9B5-3D8010D9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A32CC-E96B-4080-B1C9-E9645185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1253F-D965-4D7E-9FD2-6789A2D6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0B568-D190-47C7-8303-180AE971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ADB8A-8425-4670-93F2-0725E438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7F2B8-6511-43F9-A504-3BE293F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D16-87DD-4711-AC16-CC794B42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E4AAB-ABE4-4CA8-A946-DA336F7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7D309-F2E9-4885-94AD-5577345E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75B37-4B70-4676-AF3D-91E3A806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63CDE-8DF0-4D13-8C55-01784BCE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5C22D-82FB-46A2-91C8-37EA9000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EC83-784F-4EA7-AF6A-1B8F8B8E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3E74-B09F-4092-A692-78BDC635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3EF3-A832-4019-86A9-319BF9E8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C286E-0FA9-4233-B8C8-1278A15D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E929-A73C-4111-B2B4-440C2848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34D-24C2-4747-A614-3492F740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B2D25-89C4-419E-B0C8-8066242C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7B1F7-1217-445A-A75A-958B820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26C8D-3619-4D1F-AAE1-CCC77E01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29496-728A-43D4-B371-B60D0A85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6DD8-6996-46AA-8E9F-C90EC983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20B11-3FF3-4ED9-9350-41D155EB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0EEBB-F929-4FFA-A172-ECC9A4EF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1F6E96-0456-4AAC-A0F7-6892B70A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ADC21D-0C8E-4EE5-A6AA-F89D7866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98035-E02A-42D9-81F4-AF4B1000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76A-FD12-40DD-8EAF-E2D626E4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E9406-8B28-4445-9FF3-E267851D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62589-84FA-4FE6-A51B-145166AD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DC849-E66C-4510-869D-F0E2A3C7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DD931A-B256-4312-9ADE-662E841B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F49585-A5B0-4DF6-B5F2-D30612C9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75739-E65E-4262-BC5B-0FAB0088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5F10D-F72D-4BDB-B8BA-F403F120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456B6-973D-4488-BBE4-95F85DA1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CC7133-FE41-4EB0-A5DF-93C3E450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357A2-EBE4-42B9-8B7A-F4B46A85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68C-F003-4EF3-A2C9-577C0BE5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C4F89-FCBD-42C6-807B-5E9BB042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F0741-6E1D-4DE0-990E-AED5CA0C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53D23-7309-4836-9D72-6C623EF8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724B3-F68A-4AEF-80D7-887F1183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3E4A8-8916-4A4F-A476-66FB8E1B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9BAA7-46EF-4D3B-97C2-A45D9742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7866E2-90FF-41D8-B4EB-586D9BE2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26622-2EFC-4C6B-9D00-2E6D17D1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006AD-1187-4613-8780-23CAAD75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9E8D0-1EF2-4BBE-9B87-03DC60AB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CB0-F9EA-49F4-96B6-9B5762E9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5B550-1022-43A6-95EA-B25607D8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03E6F-1AFB-4178-8E9C-CEEC3966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5FC6F-0A96-4D48-B3DE-6D010A4B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F084D-278A-43DF-B231-25A792A9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42F3B-96AD-46B4-B168-274A6F4B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4192BA-7403-44D3-A6F5-59DDA4D1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02B68-7F93-41D5-AC1B-35A5C90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56C24-2523-4A28-B5FF-D22B4675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6C6B4-45B7-401E-85F0-0A9584D9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7D8A1-939D-4556-BAA4-F01C6A6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0DA-3294-49D5-9FCD-CF1F3528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58E24-8589-40C2-838F-D2F53896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C7344B-390F-4984-B09F-D37D7894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5E612F-4F29-4E70-972C-77B6C011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EA1-5D9F-47F8-9DFA-DD58911A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868-2F17-471E-8AE0-A2FA248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EE4C-8CB2-44E4-8455-9A4C00B0462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C4A1-45C7-495B-8127-5CA4BED0F82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8C11-6A73-4C1C-BE32-AE97633C2E0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F566-8D1B-42F6-9216-10F87812651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494C-1303-4532-9011-A748D09D37B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8B60-BF4B-40DE-93F2-BD068953586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33160" y="4357800"/>
            <a:ext cx="785484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Выполнил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Курдюкова Оксана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Группа Ф-504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384120" y="706320"/>
            <a:ext cx="836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456840"/>
            <a:ext cx="47577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eb160"/>
                </a:solidFill>
                <a:latin typeface="Constantia"/>
              </a:rPr>
              <a:t>Принципиальная черта православного символизма — его каноничность, которая предохраняет церковное искусство от перерождения в произвольное символотворчество каждого отдельного художника, что означало бы разрушение двуединства, распад иконичности, разрыв между Первообразом и образом. Вместе с тем, принципиальная черта православной каноничности — ее символичность, стремление избежать всякого натурализма, предотвратить попытки смешения образа и Первообраза. Канон поэтому есть не столько эстетическая категория, сколько мировоззренческа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643800" y="5214960"/>
            <a:ext cx="19843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9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Киево-Печерская икона Божьей Матери с предстоящими прп. Антонием и Феодосием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5286240" y="142920"/>
            <a:ext cx="3643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2"/>
          <a:stretch/>
        </p:blipFill>
        <p:spPr>
          <a:xfrm>
            <a:off x="476280" y="706320"/>
            <a:ext cx="84121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6840" y="456840"/>
            <a:ext cx="56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b160"/>
                </a:solidFill>
                <a:latin typeface="Constantia"/>
              </a:rPr>
              <a:t>Русская церковная архитектура начинается вместе с утверждением в России христианства (988). Приняв от греков веру, священнослужителей и все нужное для богослужения, мы одновременно позаимствовали от них и форму храмов. Наши предки приняли крещение в тот век, когда в Греции господствовал византийский стиль; поэтому наши древние храмы построены в этом стиле. Эти храмы были построены в главнейших русских городах: в Киеве, Новгороде, Пскове, Владимире и в Москв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6286680" y="214200"/>
            <a:ext cx="2428560" cy="51436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071760" y="5428800"/>
            <a:ext cx="241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843 года назад (1165) построен Храм Покрова на Нерли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Заголовок 1" descr=""/>
          <p:cNvPicPr/>
          <p:nvPr/>
        </p:nvPicPr>
        <p:blipFill>
          <a:blip r:embed="rId2"/>
          <a:stretch/>
        </p:blipFill>
        <p:spPr>
          <a:xfrm>
            <a:off x="420840" y="493560"/>
            <a:ext cx="83152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6840" y="4568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eb160"/>
                </a:solidFill>
                <a:latin typeface="Constantia"/>
              </a:rPr>
              <a:t>Часто на храме строят не одну, а несколько глав, тогда две главы означают два естества (Божеское и человеческое) в Иисусе Христе; три главы — три Лица Св. Троицы; пять глав — Иисуса Христа и четырех евангелистов, семь глав — семь Таинств и семь Вселенских Соборов, девять глав — девять чинов ангельских, тринадцать глав — Иисуса Христа и двенадцать апостол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428880" y="5500440"/>
            <a:ext cx="1984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Храм Иоанна Предтечи в Толчкове в Ярославле. 1671-1687 гг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5715000" y="500040"/>
            <a:ext cx="30862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456840"/>
            <a:ext cx="46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b160"/>
                </a:solidFill>
                <a:latin typeface="Constantia"/>
              </a:rPr>
              <a:t>Понятие «канон» относительно храмовой архитектуры часто употребляется архитекторами неверно, они расширяют или сужают границы этого понятия. В настоящее время в прессе, общественных обсуждениях объектов храмового зодчества зачастую происходит подмена понятий канон и традиция. Порой именно историческая традиция называется каноном. Сегодня трактовка канона архитекторами и богословами бывает совсем различной. Каждый объясняет это по-своем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428880" y="5500800"/>
            <a:ext cx="1984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3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Церковь деревянная, согласно всем канонам русского зодчества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2"/>
          <a:stretch/>
        </p:blipFill>
        <p:spPr>
          <a:xfrm>
            <a:off x="5072040" y="500040"/>
            <a:ext cx="3714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456840"/>
            <a:ext cx="5400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eb160"/>
                </a:solidFill>
                <a:latin typeface="Constantia"/>
              </a:rPr>
              <a:t>Канон в архитектуре храма носит достаточно абстрактный характер, нежели, например, в иконографии. Существование иконографического канона служит основанием для гипотезы о наличии «архитектурного канона». Иконописный канон существует на уровне конкретного графического воплощения. Наверное, суть канона в архитектуре храма заключается в большей степени в идейном содержании, чем практической реализации конкретных форм, линий, цветового решения и т.д. И возможно, понятие канон, как свод норм и правил обязательных и неукоснительных для исполнения в проектировании и строительстве православного храма, несостоятельно для употребления в отношении архитектуры храма. Канон является необходимым, но недостаточным для полноценного формообразования и возникновения нового в архитектуре храма. В настоящее время ложно и расширительно понимаемый канон часто является субъективно навязываемой традицией и подчас тормозом в развитии архитектуры православных храмов. Поэтому в настоящее время необходима четкая система, строгая многоуровневая иерархия знаний об этом вопросе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429240" y="5500800"/>
            <a:ext cx="2270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5000"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ac9"/>
                </a:solidFill>
                <a:latin typeface="Constantia"/>
              </a:rPr>
              <a:t>Храмы, подобные Софийскому, очень характерны для русского зодчества XVI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2"/>
          <a:stretch/>
        </p:blipFill>
        <p:spPr>
          <a:xfrm>
            <a:off x="5715000" y="571680"/>
            <a:ext cx="32097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3" name="Содержимое 3" descr=""/>
          <p:cNvPicPr/>
          <p:nvPr/>
        </p:nvPicPr>
        <p:blipFill>
          <a:blip r:embed="rId3"/>
          <a:stretch/>
        </p:blipFill>
        <p:spPr>
          <a:xfrm>
            <a:off x="5286240" y="1357200"/>
            <a:ext cx="3357720" cy="364356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4"/>
          <p:cNvSpPr/>
          <p:nvPr/>
        </p:nvSpPr>
        <p:spPr>
          <a:xfrm>
            <a:off x="5572080" y="507204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бор Рождества Пресвятой Богородицы в Антониевом монастыре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4"/>
          <a:stretch/>
        </p:blipFill>
        <p:spPr>
          <a:xfrm>
            <a:off x="428760" y="1357200"/>
            <a:ext cx="3528720" cy="380520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6"/>
          <p:cNvSpPr/>
          <p:nvPr/>
        </p:nvSpPr>
        <p:spPr>
          <a:xfrm>
            <a:off x="419040" y="55720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Иконопись в Древней Руси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4311720" y="428760"/>
            <a:ext cx="4618080" cy="5819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00040" y="285480"/>
            <a:ext cx="29289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92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Икона - это живописное, реже рельефное изображение Иисуса Христа, Богоматери, ангелов и святых. Ее нельзя считать картиной, в ней воспроизводится не то, что художник имеет перед глазами, а некий прототип, которому он должен следовать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2"/>
          <a:stretch/>
        </p:blipFill>
        <p:spPr>
          <a:xfrm>
            <a:off x="401760" y="146160"/>
            <a:ext cx="4365360" cy="6357960"/>
          </a:xfrm>
          <a:prstGeom prst="rect">
            <a:avLst/>
          </a:prstGeom>
          <a:ln w="0">
            <a:noFill/>
          </a:ln>
        </p:spPr>
      </p:pic>
      <p:pic>
        <p:nvPicPr>
          <p:cNvPr id="257" name="Содержимое 3" descr=""/>
          <p:cNvPicPr/>
          <p:nvPr/>
        </p:nvPicPr>
        <p:blipFill>
          <a:blip r:embed="rId3"/>
          <a:stretch/>
        </p:blipFill>
        <p:spPr>
          <a:xfrm>
            <a:off x="5500800" y="1214280"/>
            <a:ext cx="3000240" cy="39052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5000760" y="5214960"/>
            <a:ext cx="3643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a1d"/>
                </a:solidFill>
                <a:latin typeface="Constantia"/>
              </a:rPr>
              <a:t>«Чудо от иконы “Знамение”» («Битва новгородцев с суздальцами»). 15 в. Историко-архитектурный музей-заповедник. Новгород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2"/>
          <a:stretch/>
        </p:blipFill>
        <p:spPr>
          <a:xfrm>
            <a:off x="262080" y="420840"/>
            <a:ext cx="85960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456840"/>
            <a:ext cx="532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b160"/>
                </a:solidFill>
                <a:latin typeface="Constantia"/>
              </a:rPr>
              <a:t>Вокруг головы Спасителя, Божией Матери и святых угодников Божиих на иконах изображают сияние в форме круга, которое называется нимб. Нимб – это изображение сияния света и Божественной славы, которая преображает и человека, соединившегося с Богом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b160"/>
                </a:solidFill>
                <a:latin typeface="Constantia"/>
              </a:rPr>
              <a:t>На иконах отсутствуют тени. Это тоже обусловлено особенностями миропонимания и задачами, которые стояли перед иконописцем. Мир горний – это царство духа, света, оно бесплотно, там нет теней. Икона являет вещи, творимые и производимые Светом, а не освещенные светом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500880" y="5357880"/>
            <a:ext cx="198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9d3be"/>
                </a:solidFill>
                <a:latin typeface="Constantia"/>
              </a:rPr>
              <a:t>Икона Божией Матери "Неупиваемая Чаша"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5643720" y="642960"/>
            <a:ext cx="32623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6840" y="4568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Символика жест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Рука, прижатая к груди – сердечное сопереживани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Рука, поднятая вверх – призыв к покаянию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Рука, протянутая вперед с раскрытой ладонью – знак повиновения и покорност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Две руки, поднятые вверх – моление о мир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Руки, поднятые вперед – моление о помощи, жест просьб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160"/>
                </a:solidFill>
                <a:latin typeface="Constantia"/>
              </a:rPr>
              <a:t>Руки, прижаты к щекам – знак печали, скорби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214680" y="5572080"/>
            <a:ext cx="2484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efac9"/>
                </a:solidFill>
                <a:latin typeface="Constantia"/>
              </a:rPr>
              <a:t>Нерушимая Стена" икона Божией Матери.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5786280" y="285840"/>
            <a:ext cx="2986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456840"/>
            <a:ext cx="4686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Символика вещей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Дуб – древо жизни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Дом – символ домостроения, созидани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Гора – символ возвышенного, знак духовно-нравственного восхождени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Красный крест – символ мученичества (и Возрождения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Цветок анемона – знак скорби Марии, матери Христа (обычно на иконах «Распятие» и «Снятие с Креста»)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Посох у ангела – символ небесного вестничества, посланничества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Юноша с трубой – ветер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Пеликан – символ чадолюбия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Золотой венец – символ духовной победы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Правая и левая сторона на иконе или фреске – тоже зачастую символичны. Средневековый зритель знал, что слева от Христа – девы неразумные, справа – разумны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Два-три дерева символизируют лес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Луч с небесных сфер – символ Святого духа, Божественной энергии, которая совершает чудо воплощения Божества в человеке.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Действие перед храмом или зданием, где снята передняя стена, означает, что оно происходит внутри храма или здания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572080" y="5500440"/>
            <a:ext cx="2841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 fontScale="82000"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Constantia"/>
              </a:rPr>
              <a:t>Икона. Праздничный чин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5072040" y="357120"/>
            <a:ext cx="3681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456840"/>
            <a:ext cx="4829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Прошлое и будущее и иконе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Часто икона показывает события нескольких дней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Икона «Кирик и Улита»(XVII в., Ярославский музей)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 </a:t>
            </a: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или даже целой жизни святого. Во время молитвы люди успевали подумать над ними, пережить их в своем сердце. Так,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eb160"/>
                </a:solidFill>
                <a:latin typeface="Constantia"/>
              </a:rPr>
              <a:t>например, икона «Кирик и Улита» подробно и постепенно рассказывает историю христианских мучеников, матери и сына. В 305 г. по приказу римского правителя города Тарса их пытали, а потом казнили. Сложив руки в молитве, мученики кротко обращаются к небу, где на золотом троне среди облаков восседает Христос. Слева, среди арок и колонн (а значит, внутри зданий), представляют сцены их подвигов и чудес. Вот Кирика и Улиту приводят на суд, потом бьют плетьми, бросают в котел с кипящей смолой, а они остаются невредимыми. После этого они даже исцеляют руку жестокого правителя, которая попала в котел. Один из злодеев пинает Кирика ногой и тут же падает замертво. В центре иконы палач отрубает окруженную нимбом голову Улиты. Так икона показывала прошлое и будущее, при этом даже самые простые люди понимали, что чудесные события происходят в другом, неземном времени и пространстве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5571720" y="5786280"/>
            <a:ext cx="277020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Икона "Кирик и Улита"(XVII в., Ярославский музей)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5286240" y="785880"/>
            <a:ext cx="3490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456840"/>
            <a:ext cx="6248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Иконописный канон – совокупность правил и норм, регламентирующих написание икон, в своей основе содержит концепцию образа и символа. Церковный иконописный канон фиксировал и закреплял те особенности иконографических изображений, которые отделяли божественный, горний мир от мира земного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Иконописный канон реализовался на Руси в так называемых подлинниках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• </a:t>
            </a: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Лицевые подлинники – представляли собой схемы – рисунки (прориси), в которых фиксировалась основная композиция иконы, использовавшиеся при этом цветовые характеристик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• </a:t>
            </a:r>
            <a:r>
              <a:rPr b="0" lang="ru-RU" sz="2200" spc="-1" strike="noStrike">
                <a:solidFill>
                  <a:srgbClr val="9eb160"/>
                </a:solidFill>
                <a:latin typeface="Constantia"/>
              </a:rPr>
              <a:t>Толковые подлинники – давали словесное описание основных иконографических типо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715080" y="5143320"/>
            <a:ext cx="19843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fac9"/>
                </a:solidFill>
                <a:latin typeface="Constantia"/>
              </a:rPr>
              <a:t>Икона Вознесение Господне, иконописец Юрий Кузнецов</a:t>
            </a: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6572160" y="500040"/>
            <a:ext cx="2214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ovaEA</cp:lastModifiedBy>
  <dcterms:modified xsi:type="dcterms:W3CDTF">2014-09-29T08:07:03Z</dcterms:modified>
  <cp:revision>20</cp:revision>
  <dc:subject/>
  <dc:title>Слайд 1</dc:title>
</cp:coreProperties>
</file>