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6DA-F4D7-4475-9B56-E3A49A96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51F1-C595-4B1C-BDDE-A1975207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EA8-AB17-41A3-BB0E-F3D924E5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972-64C3-4108-860A-578EF78A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D2CB-70EC-41A1-A395-BFE0BDB6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732F-FFA2-4342-BB5F-9161D678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BB2E-03F7-4739-9B84-A3461627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B3A4-D775-43FB-A022-6F07DDB3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DCB7-ADD1-4249-B9C1-3921082D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FC9F-5667-4688-893A-DDB810C9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434D-65C0-4B2D-B2F5-C0BD28C2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423-6560-4A2F-8FC8-54F140E8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C648-A1E0-43DF-A5AE-0905C4AD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E5A4-E961-44CB-B7ED-30D23BD7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EA8E-43D1-4D0E-AF6E-AB83FA11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FA6A-D645-472B-87C7-1432D5C5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E2BA-FF72-4ACD-8215-1113D0A8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0CD-AFF3-4A31-A89E-46DB9119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641-D812-4C85-906C-15CA9D16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A6B-B222-444B-8E98-17E17B69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D1DB-4A1E-48D6-8856-9DF6837C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0F1-6C98-41A6-A74A-0229E1B5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7CF-A3BD-43C4-86FB-0DD0E759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9C1-3D73-42F4-AC36-80692BAC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2F11-B33E-40D8-AB8B-F2ADDC5A6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8052-1B79-4ADC-9064-3126CA5081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Художественная культура России после октябрьской революции 1917 года</a:t>
            </a:r>
            <a:br>
              <a:rPr sz="48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ериод культурной революции</a:t>
            </a:r>
            <a:br>
              <a:rPr sz="48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240" y="4436640"/>
            <a:ext cx="75214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полни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аак Израилевич Бродск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ссийский и советский живописе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ртр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еренского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17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image002"/>
          <p:cNvPicPr/>
          <p:nvPr/>
        </p:nvPicPr>
        <p:blipFill>
          <a:blip r:embed="rId1"/>
          <a:stretch/>
        </p:blipFill>
        <p:spPr>
          <a:xfrm>
            <a:off x="5091120" y="1819440"/>
            <a:ext cx="31528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учкин Петр Дмитриеви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сский советский художник,живописец, график, иллюстратор книги, педагог, заслуженный деятель искусств РСФСР(1956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трет художника П.Василье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Дейнека Александр Александрович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рой Социалистического Труда. Действительный член Академии Художеств СССР. Народный художник ССС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5508720" y="1341360"/>
            <a:ext cx="2303280" cy="2089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"/>
          <p:cNvSpPr/>
          <p:nvPr/>
        </p:nvSpPr>
        <p:spPr>
          <a:xfrm>
            <a:off x="5650560" y="3573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удущие летч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4357800" y="623736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лхозница на велосипеде. 193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евастьянов Витал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олодые художники видели свой эстетический идеал в новейших течениях и отражали в живописи занятие спортом, развитие промышлен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4648320" y="1484280"/>
            <a:ext cx="3668760" cy="4969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2160720" y="587628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звание: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ысот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9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67280" cy="50403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579840" y="115920"/>
            <a:ext cx="5564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Юрий Пименов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5724360" y="4515840"/>
            <a:ext cx="34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ешь тяжелую индустрию!" 192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ера Игнатьевна Мух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сский скульптор, народный худож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Рабочий и колхозниц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7" descr="2ca76e356f7a"/>
          <p:cNvPicPr/>
          <p:nvPr/>
        </p:nvPicPr>
        <p:blipFill>
          <a:blip r:embed="rId1"/>
          <a:stretch/>
        </p:blipFill>
        <p:spPr>
          <a:xfrm>
            <a:off x="5164200" y="1600200"/>
            <a:ext cx="300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Томский Николай Васильевич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етский скульптор-монументалист, автор многих известных парадных памятников советской эпохи, действительный член Академии художеств ССС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9" descr="200px-Stalin-grave"/>
          <p:cNvPicPr/>
          <p:nvPr/>
        </p:nvPicPr>
        <p:blipFill>
          <a:blip r:embed="rId1"/>
          <a:stretch/>
        </p:blipFill>
        <p:spPr>
          <a:xfrm>
            <a:off x="5397480" y="2033640"/>
            <a:ext cx="2540160" cy="3657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"/>
          <p:cNvSpPr/>
          <p:nvPr/>
        </p:nvSpPr>
        <p:spPr>
          <a:xfrm>
            <a:off x="3137760" y="6021000"/>
            <a:ext cx="58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юст Сталина в Некрополе у Кремлёвской ст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Архитектор К.Т.Топуридз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970440" cy="45259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нтан «Дружба»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55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2447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ксим Горь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Пешков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усский писатель, прозаик, драматур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лавной задачей социалистического реализма является воспитание социалистического, революционного взгляда на мир, соответствующего ощущения мир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дин из основателей соцреализма в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237120" cy="45259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5"/>
          <p:cNvSpPr/>
          <p:nvPr/>
        </p:nvSpPr>
        <p:spPr>
          <a:xfrm>
            <a:off x="5006160" y="602064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мятник в Санкт-Петербург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Федин Константин Александрович</a:t>
            </a:r>
            <a:br>
              <a:rPr sz="40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усский советский писатель, общественный деятел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ерой социалистического тр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5076720" y="1052640"/>
            <a:ext cx="3610080" cy="47415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6"/>
          <p:cNvSpPr/>
          <p:nvPr/>
        </p:nvSpPr>
        <p:spPr>
          <a:xfrm>
            <a:off x="5078160" y="6020640"/>
            <a:ext cx="34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мятник Федину в Саратов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544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П. Оссовский. 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Москва. Красная площадь. Мавзолей В.И.Ленина.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4278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755640" y="1341000"/>
            <a:ext cx="7920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этот период Россия обладала богатейшим культурным наслед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 ее культурно исторический процесс характеризовался исканиями и борьбой в различных сферах культур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льше всего соцреализм сохранился в искусстве плак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онец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. И. Овчинников, «Рыбаки Каспия» 1958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0" descr="234px-Ovchinnikov-Vladimir-Ivanovich-Caspian-Fisherman-ovc14bw"/>
          <p:cNvPicPr/>
          <p:nvPr/>
        </p:nvPicPr>
        <p:blipFill>
          <a:blip r:embed="rId1"/>
          <a:stretch/>
        </p:blipFill>
        <p:spPr>
          <a:xfrm>
            <a:off x="3649680" y="1960560"/>
            <a:ext cx="2139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осле революций 1917 года Россия переходит к социалистическому реализм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403848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ая тема – прославление труда человека, его подвиг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Й. Коллар Ярмарка в Банск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7" descr="Социалистический реализм"/>
          <p:cNvPicPr/>
          <p:nvPr/>
        </p:nvPicPr>
        <p:blipFill>
          <a:blip r:embed="rId1"/>
          <a:stretch/>
        </p:blipFill>
        <p:spPr>
          <a:xfrm>
            <a:off x="4716360" y="3068640"/>
            <a:ext cx="403884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оциалистический реализм-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дставляет собой выражение концепции мира и человека, обусловленный эпохой борьбы. Его возникновение и развитие связаны с распространением социалистических идей, с развитием революционного рабочего дви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530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Фото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Борис Игнатович.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Москва 1939 год.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2987640" y="260280"/>
            <a:ext cx="309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инципы соцреализ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Народ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ерои – рабочие и крестья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527640" cy="45259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1130400" y="507780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Жабинский Л. «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лхозницы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инципы соцреализ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85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дей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иск путей достижения всеобщей рад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ветски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художн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Самохвало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3635280" y="1600200"/>
            <a:ext cx="5051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инципы соцреализ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онкре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терия первична, сознание вторич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А.М.Семёнов, «Ленинград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498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зобразительное искусст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Художники в своих работах изображали быт  народа, рабочих, арм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1"/>
          <a:stretch/>
        </p:blipFill>
        <p:spPr>
          <a:xfrm>
            <a:off x="4643280" y="1197000"/>
            <a:ext cx="4038840" cy="52563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0"/>
          <p:cNvSpPr/>
          <p:nvPr/>
        </p:nvSpPr>
        <p:spPr>
          <a:xfrm>
            <a:off x="901800" y="594936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. Попова. «Хороший улов.»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0:29:39Z</dcterms:created>
  <dc:creator>Customer</dc:creator>
  <dc:description/>
  <dc:language>en-US</dc:language>
  <cp:lastModifiedBy>BorisovaEA</cp:lastModifiedBy>
  <dcterms:modified xsi:type="dcterms:W3CDTF">2014-09-29T08:09:09Z</dcterms:modified>
  <cp:revision>9</cp:revision>
  <dc:subject/>
  <dc:title>Художественная культура России после октябрьской революции 1917 года</dc:title>
</cp:coreProperties>
</file>